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95179"/>
        <c:axId val="71381570"/>
      </c:barChart>
      <c:catAx>
        <c:axId val="80595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81570"/>
        <c:crosses val="autoZero"/>
        <c:auto val="1"/>
        <c:lblAlgn val="ctr"/>
        <c:lblOffset val="100"/>
        <c:noMultiLvlLbl val="0"/>
      </c:catAx>
      <c:valAx>
        <c:axId val="71381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95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AB7-E8E0-442D-BFA4-5F3CBC67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537-0804-4176-AE96-09E41974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7F4-A8F5-499D-AC2B-8CEA77E1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B70-1741-4846-AB42-F04B573C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196-CE53-4FEA-99E3-EFEFC102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BCC-3B7B-4AD9-8C65-5E3FE58A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FE7-56E6-4C4D-B354-E2C5FFB6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7DF-E780-4CDE-85CB-A282E5AB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FF0-DECB-4EEA-9EBC-2E23F80A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246-A67B-4704-8A0B-7BE8B5F9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B5F-DA25-45F3-AB84-EF1E69FC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4DF-CD2A-4EA7-A2B2-DA91BFE9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A31D5-8813-48B5-8C7B-FFD70C6BAD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