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8075"/>
        <c:axId val="59323284"/>
      </c:barChart>
      <c:catAx>
        <c:axId val="68718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3284"/>
        <c:crosses val="autoZero"/>
        <c:auto val="1"/>
        <c:lblAlgn val="ctr"/>
        <c:lblOffset val="100"/>
        <c:noMultiLvlLbl val="0"/>
      </c:catAx>
      <c:valAx>
        <c:axId val="59323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8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146-FDF9-4B71-901F-FBE210DC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D3E-AA3F-47B2-AF0E-2FE598A7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E1C-BCA1-4312-9778-8F97EF23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60A-269B-4F16-8A1D-3EC72D48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3A6-22D1-4F31-BAB7-2F7F5B38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DB5-178E-4697-80E0-3B512E62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6EB-1CC8-435F-9B1E-A7F64903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8EA-B71B-4C35-87CB-F150E8A6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858-C4D2-4D15-9150-0419479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6A7-F0F7-4773-90BA-C8EC941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9A7-8390-41EE-91E6-4F6EFD1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37C-A4FC-41A2-B473-3D43997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70EA7-36DE-449B-9F6F-9C8754C23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