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84665"/>
        <c:axId val="91182311"/>
      </c:barChart>
      <c:catAx>
        <c:axId val="2038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82311"/>
        <c:crosses val="autoZero"/>
        <c:auto val="1"/>
        <c:lblAlgn val="ctr"/>
        <c:lblOffset val="100"/>
        <c:noMultiLvlLbl val="0"/>
      </c:catAx>
      <c:valAx>
        <c:axId val="91182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A8E-535A-45FA-BDC1-B2361D20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AF2-EE86-4A01-A3C8-1F6509D0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2568-5830-4A72-9AA6-621EB9F9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183-5AFE-4E21-B93D-2DE0634A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634-A3EC-4D75-86D4-14B5D842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15C6-E1B5-4849-B9BB-E6546A04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C1A-E11F-4BB4-8361-11B109C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1A1-5BAC-4C28-87D7-D1AF1F6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E65-18DB-4285-AA9E-3E54CB03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6A6-E778-4E54-98E3-CCE1BE6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541-0974-420C-B317-5E52718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F79-1BD4-4710-9FCC-93E118C6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E2CD6-89AD-4FE8-9038-B51EB4D60A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