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335767"/>
        <c:axId val="1436724"/>
      </c:barChart>
      <c:catAx>
        <c:axId val="103357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6724"/>
        <c:crosses val="autoZero"/>
        <c:auto val="1"/>
        <c:lblAlgn val="ctr"/>
        <c:lblOffset val="100"/>
        <c:noMultiLvlLbl val="0"/>
      </c:catAx>
      <c:valAx>
        <c:axId val="14367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357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B51D-BF9B-4860-9D03-D36E270B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39CA-0E39-42F9-A843-05BAD5BD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D250-E194-480F-A1F7-03043362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ACF4-C867-40B1-909F-F2C63DA3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A594-837E-45F6-8B6A-A26790A1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1AA0-6ADF-4D1E-A93C-8C6632A1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1910-DB2C-4BB5-A66C-223EE7BF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CBDC-F37F-4C85-A4ED-684CD5EE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EA67-8625-45ED-A5E5-4A84BE8B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A4E8-B15C-4AAB-9F85-76358DC7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58B4-94E2-4614-AF23-1594DAC3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C1A1-B5B6-47B5-B888-C68C025C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51338-6209-404D-BB0F-04EC62B862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