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45624"/>
        <c:axId val="66202578"/>
      </c:barChart>
      <c:catAx>
        <c:axId val="22245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2578"/>
        <c:crosses val="autoZero"/>
        <c:auto val="1"/>
        <c:lblAlgn val="ctr"/>
        <c:lblOffset val="100"/>
        <c:noMultiLvlLbl val="0"/>
      </c:catAx>
      <c:valAx>
        <c:axId val="66202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5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E01-7291-4801-9F80-54CF99F0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6C6-6A6C-475E-B105-F451B52B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BEE-17DD-40A0-BFCB-CCA3EB2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6AB-DACF-4E6B-B2FC-CB2310EF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0A2-0380-4104-9456-03E566B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66B-FBA6-4254-8252-967E7FD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0DA-D149-44B9-A9AD-A8107358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BDF-CA63-4E17-AA53-4B81632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0A0-D765-405A-959B-B2CCA09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C02-56AF-4ED1-8251-EEDEC3E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C10-1D76-4904-96D3-9B1273E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0F7-D430-4A76-9E60-9F89F36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9BD15-6A18-4A6B-9721-F7781E44CD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