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54498"/>
        <c:axId val="94404622"/>
      </c:barChart>
      <c:catAx>
        <c:axId val="29554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04622"/>
        <c:crosses val="autoZero"/>
        <c:auto val="1"/>
        <c:lblAlgn val="ctr"/>
        <c:lblOffset val="100"/>
        <c:noMultiLvlLbl val="0"/>
      </c:catAx>
      <c:valAx>
        <c:axId val="94404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54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4FA-026A-4551-94CA-8EA9A317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B03-FCDB-43C8-ADE3-7FB12098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1A9-48DB-457F-9207-02C8D23C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2CB-AD98-4A0C-B4B7-393ECA5E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198-1AEC-4C50-A021-A3548519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9DB-180D-422A-95BD-AEC00454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516-86D1-4805-81BF-710D2900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0FB-1484-4A4D-881F-B7762A42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0CF-D313-4CC3-B199-F9CE18B6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033-4943-4CE1-84B7-484E30D0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894-62C4-45E6-90BC-7754DD44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F15-757D-4E7E-86D6-9DAE2942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CAE28-171B-4081-8FE3-D45AB64802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